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105-36B2-4173-A0D7-A629CB8C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565-AF1A-499D-B85C-AC50F7FB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87BB-03CF-4B0E-A09B-7A77C5BA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C82-141B-4447-9F2C-BB0465C5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64C-5EF5-400A-90B5-56A2F274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FDF-57A3-4591-BE46-AD41B21D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0600-1B72-48EC-8823-BBAC9A05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39B-FD7B-40B8-8D5E-9E615CE8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F63-62DB-4832-8DFF-70791CE6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5F3-0606-4106-94AF-351FDB65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5A1-83D7-4EF1-A2AA-A4D87F48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EAD-4311-4DE8-AC63-3F008E7E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0525-61A4-4FCE-8A49-315FC6FCF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549360"/>
            <a:ext cx="8891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280" y="549360"/>
            <a:ext cx="8891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280" y="549360"/>
            <a:ext cx="8891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9:18:52Z</dcterms:created>
  <dc:creator>SUHAS</dc:creator>
  <dc:description/>
  <dc:language>en-US</dc:language>
  <cp:lastModifiedBy>SUHAS</cp:lastModifiedBy>
  <dcterms:modified xsi:type="dcterms:W3CDTF">2009-09-28T19:19:11Z</dcterms:modified>
  <cp:revision>1</cp:revision>
  <dc:subject/>
  <dc:title>Slide 1</dc:title>
</cp:coreProperties>
</file>